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0B396-EB36-40CF-A9EC-F81B24F79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836D7-D1AE-4056-ABAA-84B7E6A14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25738-B768-44A7-A585-EF9682466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8258C-B2B0-46AD-A5C2-7E22F36DD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1BB04-8510-42A2-B6A2-4E88A1214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9B8CE-ACE1-493A-9D37-29A231F8B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A89B1-EDDC-4F2E-BFB8-509055D93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0A121-BEE5-43BC-B530-BCAA01727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E6256-6245-42B2-BCF1-C3F76A9CA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7A760-67CE-409E-99DE-9DB7A6495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B9120-F423-4EED-907D-7AF57C32E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97346-21A7-40BB-B379-706EBC302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79E42-49F7-47C9-8E38-178D69350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FCA5F-09B8-41DE-959F-EEF4A7F19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4B88F-7FD8-4933-B580-274D33FCE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89AB9-CD44-4099-B7CB-D9E065079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BDE86-0D33-4CA3-9A4F-7852E8E38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6FAE9EC-FB61-4FA0-8816-E017E8FE1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AFC981A-473F-4971-A140-F4C25FE69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DF796E4-019C-4390-92BA-7BE4D958E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52CCDE5-66DC-4A5B-AA38-C10009D01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697D85B-DEAA-4F25-ACF7-A100BE35E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F6CD2-3B1D-40B4-B956-19D7CFDC0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5C9FAD0-A5D2-4838-8332-516BE9B64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4DF164A-9A32-4669-9447-9FE87CCDE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D6A3E3D-58DF-4A8D-B325-43431C1F2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9AA72B7-0080-4A90-B46E-7B4FBDB5D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4885560-8B26-4A57-84E2-26719E738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49F7538-9F53-44EE-AAEA-C794B6403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8121831-04C8-4298-B00E-8CD198547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D0ECFEB-8EC2-4BCB-A5F9-41A94DB5D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D05F2E3-71A8-4052-ADC9-F67BB3D32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15D5043-AD5C-4D6F-8763-3FAFDE3CA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E8C5E-898D-4461-97E8-140AF197B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10F95C3-9967-44CC-8A83-44DFD0B05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0BC4353-E025-4A08-AC65-3E0B2DED9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D420C16-1F62-4199-89B9-FCC790C0A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13E3682-5F55-4FDA-9698-7D7F12525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ECB645D-1E68-4B61-86E4-A32DF4B4E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79BC881-FEDD-4147-9229-CD1F3FE12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86E7717-1158-4E4E-9D93-56EF6C2B4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F46DFDA-EAA8-4918-9CC3-D31A303ED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46A3760-CD68-4B88-BD65-D1F61DA37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C993DCD-FA57-40E1-AF24-C27A19DC6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B023F-A9DC-4E7B-ACF8-F08E0736B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15F20EA-A557-4C9A-B3BE-8D07E6DE0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CD168FF-9037-4B3A-8E1A-34EBCEAEB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E9EFCEC-CC7F-4692-A5DE-F8F5397BD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AE54900-63ED-4008-9DDC-892D78C63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3CCFAAE-45EA-47A7-B452-DE021534E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BD07D7E-9156-49B1-AACB-7114CDC27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5BE4C68-EC75-4E5D-BD11-FD3DDF906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9F2F2F0-AB7C-4470-A5BF-DAB441765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98EBBB0-78D6-4FDB-9AD6-2725450D7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F77D237-E43E-475A-A86E-33CFA477A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70FB2-6A15-42BF-AE47-425D8C3F0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58C90F2-58EF-43C9-A480-5FD36DFB4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916A40-307C-4D89-90D5-9678B5710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BDC1C9-9228-438B-AD5A-2BB848C61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DEF2F2-510C-4962-ACD0-A26B165FB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26EAB5-F853-4F2A-B7B8-A828C9400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8AA4C3-A4C6-4F3A-8A99-C30B4783B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4D973D-D9C5-45CF-8B23-452CD3C54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59C343-8B5A-4391-82E2-90017DC19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69D350-576C-492C-BAD3-CC58A0FF2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9ABC5A-494E-4F11-93E8-16FA6C9EB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078E0-9B11-49CF-903C-85F266575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D4D703-0F50-459D-A0B4-60AE8C3BD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C15C90-9CED-49F6-99FC-265EFEC4A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F3CA72-4444-4C93-B30E-225C4BE32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DAA3FD8-B177-4C83-A0A5-6CD54D50F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3078238-F0EE-4D9D-878C-7999D8015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EFFF756-0866-41B8-830C-53708C201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B4B1596-227C-472E-B952-828D457FC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5648B11-CA2F-41DB-A361-F7D18F958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ED7BF3B-4D02-4AE9-8E02-ADCE23103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CAE34A8-6A57-47B2-9193-D55C91D40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06CA0-C585-4A4D-BCF5-122CBA046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3452DC9-929D-4C53-B0A6-07B42780E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0E3B86B-07F6-43F3-A833-611ED2AEF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517AC25-B8C3-467D-9EB5-D476077D1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F089BC3-AE9F-4849-8B0A-0726A6CA8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5D48065-231B-4957-862B-BA659BA63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941986-01BC-4D96-9F52-F496DB7D0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ACA779-A0D4-467D-BF7F-0F564E61A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11A840-7FAC-4818-94F9-17EC99D82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1D2A4C-5BCC-48B7-BE00-99E9B10DF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355211-3564-4C87-A033-846549E1B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E0243-1C2F-4F1D-BEC8-E9B7B8FF0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6C5022-30A8-4215-BE7E-AAEDAF972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468E30-FEA1-44FC-885B-E819174FC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4F6814-1C21-4AD2-9764-14EB7669B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17C43C-0094-4524-A992-EDED50DE6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D31329-EB0C-42F3-B3A5-66263573B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099229-2876-4C91-92CC-F9D138059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319E3B-C00A-4C33-807A-684806234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BA6F6-96AD-4F9D-AE60-71228D1CF697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ebddc3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3F257-1908-4344-A275-BBAE2B3C2823}" type="slidenum">
              <a:rPr b="1" lang="en-US" sz="1400" spc="-1" strike="noStrike">
                <a:solidFill>
                  <a:srgbClr val="ebddc3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2AB9D-FC12-49E7-BE06-90CE4A875BEB}" type="slidenum">
              <a:rPr b="1" lang="en-US" sz="2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BB567-60E8-4DD9-A350-7A0C0B0ADF16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F5F2A-EAAF-4D80-B0F6-30AC9C8EF540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06C8D-4B66-4AE2-8E16-5C6259CEB758}" type="slidenum">
              <a:rPr b="1" lang="en-US" sz="1400" spc="-1" strike="noStrike">
                <a:solidFill>
                  <a:srgbClr val="775f55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12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C3FF6-5FE4-4C57-928F-96A0A20D2BC2}" type="slidenum">
              <a:rPr b="1" lang="en-US" sz="28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0000D-9061-4DA5-8F7D-08987D4BBFD1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361960" y="4038480"/>
            <a:ext cx="647676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HAPTER 14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w Cen MT"/>
              </a:rPr>
              <a:t>Assessment, Standards, and Accountability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ome up with 3 informal and formal assessments for the following topics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1. Parts of a cell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2. Locations of 50 state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3. Difference in opinion and fact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Formative or Summative.....?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est on Friday after covering a chapter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onversation with students after a lab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Quiz on spelling words after 10 minutes of introducing them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Next Week’s Test on Ch11 and 14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Vocab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cenarios for assessmen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lection of curriculum (scenarios)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Assessmen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What is assessment?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The process teachers use to gather information and make decisions about students’ learning and development.”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ASSESSMENT DRIVES INSTRUCTION.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Types of assessment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tandardized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Given to large samples of students (sometimes even nationally) under uniform conditions, scored and reported under uniform conditions as well. 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Accountability measures, both for teachers and students, rely on standardized testing. 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eacher-made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Created by teachers to measure and promote student learning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Informal assessments- not for grades, observations, quick writes, non-graded quizzes, “anecdotal notes”, practice tests, informal assessments about personal, social, and moral development as well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rmal assessments- graded, tests, papers, presentations, etc.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graphicFrame>
        <p:nvGraphicFramePr>
          <p:cNvPr id="359" name=""/>
          <p:cNvGraphicFramePr/>
          <p:nvPr/>
        </p:nvGraphicFramePr>
        <p:xfrm>
          <a:off x="612720" y="1600200"/>
          <a:ext cx="8153280" cy="2595600"/>
        </p:xfrm>
        <a:graphic>
          <a:graphicData uri="http://schemas.openxmlformats.org/drawingml/2006/table">
            <a:tbl>
              <a:tblPr/>
              <a:tblGrid>
                <a:gridCol w="4076640"/>
                <a:gridCol w="407664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Paper- pencil assessm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Performance assessm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Portfolio assessments- collection of student work, especially beneficial in writing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Caution: have student select pieces and explain why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775f55"/>
                </a:solidFill>
                <a:latin typeface="Tw Cen MT"/>
              </a:rPr>
              <a:t>Formative  VS summative assessments</a:t>
            </a:r>
            <a:br>
              <a:rPr sz="4000"/>
            </a:b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rmative assessments: the informal assessments with the primary purpose of providing students with feedback to increase motivation and achievement.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ummative assessments: assessing AFTER instruction and used for grades. Demonstrates whether or not students mastered the content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Misconceptions about assessment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09240" indent="-3092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1. The central role is to determine student’s grades.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2. Assessment occurs after a unit of study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3. Assessment process focuses exclusively on students’ understanding and skills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75f55"/>
                </a:solidFill>
                <a:latin typeface="Tw Cen MT"/>
              </a:rPr>
              <a:t>Using Assessments to  Promote Learning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09240" indent="-3092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Remember, the primary purpose of assessment is to promote learning and advance development of students.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To promote learning and development, assessments should…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- be aligned with standards 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- measure both student knowledge and thinking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- include detailed feedback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- avoid social comparisons   (p.423)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1T03:45:19Z</dcterms:created>
  <dc:creator>Amy B Bowden</dc:creator>
  <dc:description/>
  <dc:language>en-US</dc:language>
  <cp:lastModifiedBy>Chris Brown</cp:lastModifiedBy>
  <dcterms:modified xsi:type="dcterms:W3CDTF">2011-09-28T20:59:00Z</dcterms:modified>
  <cp:revision>4</cp:revision>
  <dc:subject/>
  <dc:title>Chapter 14</dc:title>
</cp:coreProperties>
</file>